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D504-BB72-492A-9753-58B7C64917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86F7-388C-443B-AE83-3BCF18008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DAE1-ADD8-4797-9B52-097B41C2E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C4D8-578E-4392-AA0E-6818ABF5C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30A2-1A08-4222-85D2-193F3A2D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BD05-3251-4D32-BA65-56E5FC55D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29CC-38CE-4A8F-BE78-CFFC71B17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6401-F061-4077-84BB-77BEFDEFC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E37A-0717-410F-81DE-0D73D6030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B2F7-3ED6-4D02-9801-42F9B23D3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4474F-3852-4BF3-A816-CC8FB2C49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0A2B6-6E3F-4550-80A3-1AF577B29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E2831-350B-42A9-BDBF-10D99C62A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D8CA0-4EF0-4236-B197-3A6EBF4B7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978FD-F736-436B-AC25-057F7258A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293E7-2E60-4CFF-BB3E-98B314342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B346E-A547-4D3D-AC47-208F3D323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8E47-9155-4DC2-8830-B9C8F9FB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92CBB-7EDF-45A9-8DDB-BD24C9BFD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EEDB9-023E-4B58-9BCD-B10C220EE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3A9CE-B60D-4FE4-96D9-37B124299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2BBA-3E76-419E-A9C5-10EC185E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30752-CCBF-4195-8ABD-C82EB0C2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3175F-398C-43D1-9750-BE2108043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1EC3E-ED76-46CD-9D08-46A4AFC66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69F1F-4C0E-43D0-ADB5-3381E8FF8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139AD-0139-4915-8B43-72AC81516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DF47DF-6033-4D37-84AB-F3EEBB098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D5953-9707-4787-B1BD-1EE09C5EA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A5A93-50CB-45A4-86FF-26E1390B5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F53B1-55B2-4037-8598-D18621296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1C487-69C4-4EC7-8D71-AD5C24E3F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6855-AEE5-4004-AF4D-2BCD1E2C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DC3FF-55E8-4CA4-9849-B290B5855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09913-6D90-4157-9617-574410018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44D35-77CE-4D77-9D9E-AF6EEB3D6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E9415-215E-4813-90AA-B9F10D237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74588-BAF0-4F4A-97AF-383078C85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A4594-AAF8-480F-B1A5-E669B172F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E4D6F-CD9E-4C0D-A712-8AAFDFF35A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25475-C377-4CE4-BE7D-5A3E1F86D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2CB1D-4438-44B1-B7FC-91E70762B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856F1-8D02-4BE2-BC47-2CFACE73A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D452-2DCD-4AA1-B2EF-F1274206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A0A9C-930B-4838-904E-C6568FB63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38923-0B80-4E00-BE8B-28D217AB3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72D9D-FABF-4E37-8FBA-97AA35F87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2BB75-0011-42CB-927D-7AF553C87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234A-FA33-4231-A93D-1AAE19201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D209C-5DAD-4766-B5E8-1B53FE4CA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A5B16-9BA0-4E7C-AE8F-4C1EB8006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FFD9A-9C6D-4EE0-8D14-7F764B0277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0A38DE-A5A3-48DE-BC42-719E6E53A8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6E8795-13D2-41F1-8AAC-CF673899B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6AB9F-3E6D-40BF-A5A7-46E756E0E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90769-BF80-478A-ACFA-4E1883F82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0F142-611D-475E-8FF0-03B5F5038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4185A-4670-4370-ABBB-929E29E85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1D85C3-557F-44D5-9B2A-75FC99440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E0DA6-BAEA-42BE-95BC-BD5C30E0D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0EEA1-83B0-4DF6-B38B-1BF8512C2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AFD08-46AA-4726-8C8F-B90A78AE9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8D33B-3CBE-4D20-9DD5-B5EE3FC94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03F45-4E65-4A7B-B8B0-62B3B01D5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6531C-EEE8-4008-9AB6-20729DB05C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83F6-554B-41C9-A525-FA53658C2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655CE3-19CB-4ED8-808A-301025B190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BA37DE-A68B-48C3-AF14-450241C1B7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3A16AF-58B1-4821-AD37-1A9C39392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506AA-D327-4ABC-A879-EDE12E8D0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C670F-B52D-4A69-8D7B-FE631BB23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487FB-755C-46BF-9557-C3E574047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ED997-11DE-44FC-A740-3196DF348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D775E-D3E9-494C-AE9A-F7B3A0261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9D3AC-9965-403A-9640-E3AEE9482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CC36F-1E5E-4625-8D1E-51D65E2A0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DA43-7365-428D-AE56-37F7187C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11CE3-5384-42A9-8629-08F380951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57A0C0-D9E5-4E52-9164-23770D301B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4252C0-F8D6-4622-A34B-CA30B1ED03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89F2B3-65FE-4F5A-A1EF-5E98186DC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6E6991-B1D0-4E2C-A815-AE7C030C0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1F9E0-EEEA-4260-B737-1AE43496CB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BCBCB-D9F7-4995-915D-094F542616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7EA76-1676-4581-A738-67E1FA457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F2D3B6-9364-46EB-A5C1-1C877F828F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F778A-AFC6-45C5-9AE7-FB96B68C3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60AD-181B-43F7-98C1-20998ED6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BECD1-9028-4924-AA07-55CBD6801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588F9-4C6B-4612-AB85-C3AC6CB3D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FD7CAF-EDB4-4BA2-9FC3-AAD1267655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BAC02F-85D2-43A3-B238-AC7DB50142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28CCE-17BB-4270-8131-294B1EDBA4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5FF54E-7B89-4B58-84F7-9ACA66069B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1F7BA4-450A-47C8-BF0D-39AFB66C70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C22F8-18E3-45AD-B1DD-E1C52EA40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2C19A-4E00-4BEF-941B-8C684652B8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78A05-1697-46FB-A821-F2E52BE7B0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D779-476E-47A7-ABE0-85C292C2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99EE19-3517-46D0-9FE7-F0570310D2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E428A-E453-4CE3-ABF3-01F3FD9E4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BF14F-6C1D-41D1-BC30-EB510B4D2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98BEB-3AF0-454D-B9D2-93AE6B2A9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31D50-8564-4BD3-8266-93BD74306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ADB5C6-0CF9-4EB6-A9FE-A6DD34426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699F36-73DC-4027-B9EA-1B56808F7F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6189-9F16-4A6B-8761-E8D78C65F5D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6BEF-2A1F-4B86-9066-CE45CBCE2E1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E5BA-9D64-452E-AEB7-AA9B5D33CE34}"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DEFD-DDD5-4464-99B1-5218CC034F2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DB0E-D182-47D7-8D4C-77B584BFC7F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CAF4-8653-4E91-AF1F-603A79EAC29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E902-F5B0-4C40-9E11-D750E1B6791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8CA6-895A-4BD2-B417-B4819CA8C8B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 </cp:lastModifiedBy>
  <dcterms:modified xsi:type="dcterms:W3CDTF">2008-03-27T21:09:21Z</dcterms:modified>
  <cp:revision>70</cp:revision>
  <dc:subject/>
  <dc:title>RDF Store – Evaluations and Issues</dc:title>
</cp:coreProperties>
</file>